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20689"/>
        <c:axId val="43602417"/>
      </c:barChart>
      <c:catAx>
        <c:axId val="13720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02417"/>
        <c:crosses val="autoZero"/>
        <c:auto val="1"/>
        <c:lblAlgn val="ctr"/>
        <c:lblOffset val="100"/>
        <c:noMultiLvlLbl val="0"/>
      </c:catAx>
      <c:valAx>
        <c:axId val="43602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20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45D-C000-46F8-A2F5-569927FB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51B-63DD-4A5A-8638-2591ACF2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FAE-E82D-491E-9C6F-950A07CE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F1D-1D20-498B-AF6E-91B454CB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D21-0AF5-4AB5-8EC1-20E8AE53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347-FA62-41CF-BB0C-CE9378F1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88E-1C33-4A70-A385-D51005AF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1D8-D05D-4AA0-8CF6-D590FEFA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8ED-F41F-4276-B411-F85C943B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310-7040-47D3-BCA7-30E0F044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CFF-F35D-4F92-BBF4-399B53B7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DCA-4BB7-4D19-AB42-76CCB30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DADD1-30F1-4525-89E9-96A3B882E4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