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23307"/>
        <c:axId val="30396878"/>
      </c:barChart>
      <c:catAx>
        <c:axId val="39023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96878"/>
        <c:crosses val="autoZero"/>
        <c:auto val="1"/>
        <c:lblAlgn val="ctr"/>
        <c:lblOffset val="100"/>
        <c:noMultiLvlLbl val="0"/>
      </c:catAx>
      <c:valAx>
        <c:axId val="30396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23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0E8-E34C-4B7A-929D-8D91626E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1D2-B440-448B-ACEA-578566AB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38A-A16E-460D-98B5-EFDF9ED5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E82-78B9-4501-8134-CBBE84E8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042-BD69-4192-BE2C-1F2F1B5B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11C-ECE2-450F-AED0-19C2E6E9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29D-52F0-457C-B628-54F10E66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3ED-965C-4425-BCE0-24B87AA2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832-287F-49CA-BE8F-AAFE0222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C6B-13A7-4DC2-AF92-80DF4FDE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121-D52C-452F-AC41-77ADB025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18B-5D17-4C06-A5D6-384E99EE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BC2E2-D13E-40ED-A85F-EEA1D36716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