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28261"/>
        <c:axId val="15232006"/>
      </c:barChart>
      <c:catAx>
        <c:axId val="1612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32006"/>
        <c:crosses val="autoZero"/>
        <c:auto val="1"/>
        <c:lblAlgn val="ctr"/>
        <c:lblOffset val="100"/>
        <c:noMultiLvlLbl val="0"/>
      </c:catAx>
      <c:valAx>
        <c:axId val="15232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2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902-A03B-441F-9F12-BF8A8753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323-C332-4F65-AC29-94C6017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4CA-F859-43D6-874D-6438E482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0DC-3CC9-45C9-ADF4-B6B1100C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395-088D-4A93-83F5-CA645B1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3F0-680B-41BA-9400-8AC6F505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D82-5D09-4051-B37B-2F9968BF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EA4-B9B9-4431-9D8A-22A6D90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2DD-D28C-41D4-A2C7-15C38033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71D-AEBC-4B94-927B-5C57B7A1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87D-D63D-4C76-AD86-CE22BEE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D6E-3164-4F13-9DD4-76610CA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48E48-D40B-4CB4-A94C-A1AD013D5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