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84292"/>
        <c:axId val="32638478"/>
      </c:barChart>
      <c:catAx>
        <c:axId val="22184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38478"/>
        <c:crosses val="autoZero"/>
        <c:auto val="1"/>
        <c:lblAlgn val="ctr"/>
        <c:lblOffset val="100"/>
        <c:noMultiLvlLbl val="0"/>
      </c:catAx>
      <c:valAx>
        <c:axId val="3263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84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6F1-776D-46CE-B827-14D4D6E4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80B-290D-41FB-8E86-EEEFE91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A2B-A784-4035-9FFB-12CEEF56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687-67E4-45F2-B22B-07E41D4D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4CF-BB15-4234-8114-8CF6D53F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DB6-677E-4261-BC40-B7ABB88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19E-71F2-4F18-8347-8C841CF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7D0-411E-49EF-B8E3-4862CC3C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011-B6BC-47D0-BED0-422F898A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694-85F3-4B36-B003-13B04E4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61B-7F66-41CF-8CEA-CFE05A0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41E-4512-44C4-AE92-03E0411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1DABB-3A43-413E-B5E3-DAF420C7D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