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89837"/>
        <c:axId val="43734425"/>
      </c:barChart>
      <c:catAx>
        <c:axId val="44389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4425"/>
        <c:crosses val="autoZero"/>
        <c:auto val="1"/>
        <c:lblAlgn val="ctr"/>
        <c:lblOffset val="100"/>
        <c:noMultiLvlLbl val="0"/>
      </c:catAx>
      <c:valAx>
        <c:axId val="43734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89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A2B-8E07-4A2F-8F67-D0E43247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FA1-D8A8-4BB1-BFA4-6FC0C21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C4B-2B92-40E3-B303-588EF66A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012-453D-4010-AFB3-907B668F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1D4-D7DE-4132-9CF0-40DC2026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2E5-D5BE-4013-93E6-AFB8B4C5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3DB-B89D-49B1-9769-347BC9F3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109-F2E6-4BC2-AB53-6D0E6B0D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511-9520-4DAD-B0CF-605CEDB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823-93A8-4E4B-A569-52B71A4E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781-3C0C-475D-B2EE-8447911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B86-4BCA-4EC5-B50D-C96C319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E87AE-B0E7-443D-A3EF-A781DDAD5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